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14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6A25-23CC-4C97-A07A-F91F4C9F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75A-5F45-4021-AC78-AF22FCE9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E82C-8AB4-4FF7-BF8B-E8135925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3E66-1E64-45A6-A9C6-E0DF0368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083-6311-466B-8D74-8D68AC0E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A102-4BFA-45CF-9556-58579459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20F-7D3D-4EF1-94C8-2BBE6526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C2C-D373-431F-8668-14403C03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F7D0-CB15-43AF-BCF0-59825D8F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2926-4A24-46FC-B1A8-A09789FD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45D-8892-4FF4-A1BD-80F4D495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BF37-94D8-42F5-9D5F-D556CC6C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A840-1067-4819-A489-B3D53E279B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2349360"/>
            <a:ext cx="612432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行规你我知，习惯你我晓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19280" y="1413000"/>
            <a:ext cx="619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隶书"/>
                <a:ea typeface="隶书"/>
              </a:rPr>
              <a:t>如果让你去帮助小陈和小蔡克服这些不良习惯，你有何高招？</a:t>
            </a: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651360" y="1052640"/>
            <a:ext cx="1521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请听二则反面案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55640" y="40464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</a:rPr>
              <a:t>案例一：北京有一家外资企业高薪招聘应届大学毕业生，对学历、外语的要求都很高。应聘的大学生过五关斩六将，到了最后一关：总经理面试。一见面，总经理说：“很抱歉，年轻人，我有点急事，要出去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</a:rPr>
              <a:t>分钟，你们能不能等我？”这仅剩的几位大学生们都说：“没问题，您去吧，我们等您。”经理走了，大学生们闲着没事，围着经理的大写字台看，只见上面文件一叠，信一叠，资料一叠。都是些什么呢？他们你看这一叠，我看这一叠，看完了还交换：哎哟，这个好看，哎哟，那个好看。</a:t>
            </a:r>
            <a:br>
              <a:rPr sz="2400"/>
            </a:br>
            <a:r>
              <a:rPr b="1" lang="zh-CN" sz="2400" spc="-1" strike="noStrike">
                <a:solidFill>
                  <a:srgbClr val="ff66ff"/>
                </a:solidFill>
                <a:latin typeface="Arial"/>
              </a:rPr>
              <a:t>   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</a:rPr>
              <a:t>分钟后，总经理回来了，他说：“面试已经结束，你们全都没有被录用。”大学生们个个瞪大了眼睛，“这是怎么回事，面试还没开始呢？”总经理说：“我不在的这一段时间，你们的表现就是面试。很遗憾，本公司从来不录用那些乱翻别人东西的人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55640" y="620640"/>
            <a:ext cx="475308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日本有一家食品公司要招聘一位卫生检测员，一位衣冠楚楚、气度不凡的年轻人自信地走进了总经理办公室，他优雅的谈吐，扎实的专业知识赢得了总经理的好感，没想到就在年轻人转身离开的时候，他下意识抠了一下鼻孔，这个不起眼的小动作并没有逃过总经理的眼睛，结果可想而知，一个没有良好卫生习惯的人怎么能够做卫生检测员呢？当然，年轻人到死也不会知道是他</a:t>
            </a: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抠鼻孔</a:t>
            </a: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的坏习惯毁了他的工作，使到手的饭碗落入了他人之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435640" y="1197000"/>
            <a:ext cx="3203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4360" y="184464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大家听了这几则故事有什么想说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4360" y="2997360"/>
            <a:ext cx="7200720" cy="1747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116000" y="1341360"/>
            <a:ext cx="1297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5640" y="981000"/>
            <a:ext cx="56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华文行楷"/>
              </a:rPr>
              <a:t>故事交流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9640" y="5300640"/>
            <a:ext cx="3333960" cy="428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692360" y="4221000"/>
            <a:ext cx="863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03280" y="765000"/>
            <a:ext cx="62658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夸夸身边的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想想自己的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443700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我们可以从行规、学习、卫生等等等等的方面来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26920" y="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好的习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62064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学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课堂有纪律，认真听讲，做好笔记，不顶撞老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分清主次，首先完成学习任务。不要在玩得很累、很迟时      才开始学习，这样不仅学习效率不好，做作业、背书常常来不及，而且还会对学习产生厌倦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专心致志，不一心二用。不要边做作业边干其他的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④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有张有弛，劳逸结合。连续学习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小时，中间就应该安排一次休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⑤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学习生活的安排有规律。根据学校规定的上学、放学     时间，结合自己的状况，制定一个更具体的作息时间表，坚持下去形成习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⑥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遵循学习常规。课前预习，课上记笔记，课后复习，做习题。课间与同学讨论，不懂就问或查资料，独立完成各项作业。今日事，今日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42920" y="404640"/>
            <a:ext cx="6624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卫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讲究卫生，地上无痰迹、纸屑，墙上无污痕，桌上无刻划，门窗无破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勤俭节约，不浪费水电资源，发扬刻苦耐劳的精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认真完成值日，保持自己的包干区整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纪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课间有秩序，不喧哗打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语言有礼貌，不讲脏话，语气和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不与社会上行为放荡分子来往，不上网，打游戏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④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不抽烟，不喝酒，不斗殴打群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333360"/>
            <a:ext cx="80647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场景一：话在课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下午上课铃声响了，老师正准备开始上课，小蔡和小陈一前一后急匆匆地跑到教室门口，不早不晚绝对是东八区标准时间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两人坐下后神思不集中，书也没拿出来，东张西望一会儿，又趴在桌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蔡：现在想睡觉了，你困不困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陈：正起劲呢，不过瘾，我们晚上下课后再去？我那个对家太窝囊了，还没开火就死翘翘，他妈真够郁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蔡：那晚上我们联合，好好疯狂一下，我还琢磨着多赚点钱呢，昨天用低价买了很多废弃的二手货武器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万进来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300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万出去，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他们就这样喋喋不休讲个没完）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26920" y="62064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名言警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32000" y="1773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孩子成功教育从好习惯培养开始 ——巴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306864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的习惯会随时阻碍你走向成名、获利和享乐的路上去。—— 莎士比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3280" y="50846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习惯形成性格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性格决定命运。——约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凯恩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87280" y="1125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主题班会到此结束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~~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87640" y="33577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谢谢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~~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54936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在场景一中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小陈和小蔡同学的习惯违背了中学生行为规范的哪些条例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3573360"/>
            <a:ext cx="5832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课堂有纪律，认真听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语言有礼貌，不讲脏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与社会上行为放荡分子来往，       不上网，打游戏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32000" y="5950080"/>
            <a:ext cx="6769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549360"/>
            <a:ext cx="52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场景二：溜之大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下午三节课即将结束，小蔡和小陈开始骚动不安，伸展着疲惫的身躯，挪动着椅子，弯腰半站，似乎想从后门口一跃而出，正在这时候铃声再次响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值日组长：哎，你又要跑了啊，地又不扫，真是讨厌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蔡：我有急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小蔡甩头就跑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55640" y="1197000"/>
            <a:ext cx="54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在场景二中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陈和小蔡同学的习惯违背了中学生行为规范的哪些条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4005360"/>
            <a:ext cx="5256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课堂有纪律，认真听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认真打扫卫生，工作认真负责，不走逃跑主义路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620640"/>
            <a:ext cx="792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场景三：游戏人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晚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0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小林和小陈急忙忙冲进了网吧，两人急敲键盘，顺利进入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CS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反恐精英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.5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版界面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小陈：你往左边，我走右边，带上匕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快快快，你头上，小心，噢，娘的，真没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小蔡：这小子太厉害了，防不胜防啊，再来，我不搞死他就不回去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你说晚上应该不会倒霉吧，被抓就完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小陈：胆小就别玩，怕什么啊，有腿没啊你？中午刚查过，晚上吃饱了撑着啊，别废话，快快，我得买点武器好好装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小蔡：来，提提神，舒服，看我怎么弄死他，呆会儿去买包芙蓉王，换换口味，这星期本来买衣服的钱又报销了，回去又要挨骂了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尽管烟雾弥漫，两人正全神贯注地玩着，与课堂上的他们判若两人，似乎这才是真实的他们 ）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1197000"/>
            <a:ext cx="5975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在场景三中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陈和小蔡同学的习惯又违背了中学生行为规范的哪些条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4149720"/>
            <a:ext cx="41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语言有礼貌，不讲脏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不上网吧，打游戏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4360" y="1268280"/>
            <a:ext cx="612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场景四：迟到万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早自修时间已过了一半，小林不紧不慢地走向校门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保安：这位同学你的校徽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小蔡：没有，丢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小蔡随手拿出一元钱换回校徽，并很随意地在迟到签名簿上划了几下，字迹非常模糊，正待保安要喊住时候，甩头就跑，在旁边草地上随口吐了一口唾沫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71640" y="1197000"/>
            <a:ext cx="49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在场景四中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陈和小蔡同学的习惯违背了中学生行为规范的哪些条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3357720"/>
            <a:ext cx="34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不无故迟到、早退、  旷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校园内应佩带校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态度应该诚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④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讲究卫生，不随地吐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4:22:40Z</dcterms:created>
  <dc:creator>微软用户</dc:creator>
  <dc:description/>
  <dc:language>en-US</dc:language>
  <cp:lastModifiedBy>User</cp:lastModifiedBy>
  <dcterms:modified xsi:type="dcterms:W3CDTF">2013-04-13T14:31:07Z</dcterms:modified>
  <cp:revision>19</cp:revision>
  <dc:subject/>
  <dc:title>幻灯片 1</dc:title>
</cp:coreProperties>
</file>